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6D8E-18CE-43C2-A00D-68621BF95302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rison and contrast conn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comparat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46BD-5365-442E-B2DB-CC351B7340C3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1A70-4802-44B0-A927-BE6397B3A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DAEE-DF88-44C5-A827-46AD8759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0FCB-4E07-4ADC-83A5-CF5FD39B6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46E6-E3A1-4278-AA4B-05410596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EB2F-FD06-4C36-81C8-852CA9B5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67AC-D58B-4C22-8493-B804457C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369E-66E9-49CA-AFB2-40189FB0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B09A-F5DB-40F7-B31F-4BEEE0FD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C505-EEE2-4A1D-B384-0CBF187C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616F-F1B2-4CDD-8784-E84B0C58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1B53-F25D-4A63-A72D-8ABFDC99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E01F-B9EC-48D9-B778-A3051799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BB39-1497-4051-B77A-48D0AD1DD9F2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ison and Contrast Ess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art 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Compara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atives are used with adjectives, adverbs, and nouns to show differences btw two subject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12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using a comparative in a sentence, we sometimes delete the second subject and verb. We also sometimes use the comparative withou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n the context is clea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122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124) Exercise 5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comparative essay describe the qualities of a subject or idea by discussing the </a:t>
            </a:r>
            <a:r>
              <a:rPr b="0" lang="en-US" sz="3000" spc="-1" strike="noStrike">
                <a:solidFill>
                  <a:srgbClr val="0070c0"/>
                </a:solidFill>
                <a:latin typeface="Calibri"/>
              </a:rPr>
              <a:t>similariti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3000" spc="-1" strike="noStrike">
                <a:solidFill>
                  <a:srgbClr val="0070c0"/>
                </a:solidFill>
                <a:latin typeface="Calibri"/>
              </a:rPr>
              <a:t>differenc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t shares with a different subject or ide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Point-to-point analysis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examines one feature at a time for both similarities and differe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Whole-to-whole analysis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examines one object/idea as a whole and then the oth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Similarity-and-difference analysis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presents all of the similarities between the two things and then the differen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p.116) My two hom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Quetzaltenango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ore commonly known as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Xel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(shay-la), is the second most populous city of Guatemal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at two places does the author compare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sis statement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tructure? (point-to-point? Whole-to-whole? Similarities-differences?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imilarities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ifferences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 your own words, describe the writer’s feelings about the two place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Mode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Foc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ison and contrast conn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comparat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arison and Contrast Conne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0012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Sentence connec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used to express relationships between ideas and to combine sentenc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Connec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help creat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coheren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y indicating the relationship between ideas in scien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s of connector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Conjunc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Coordinat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junction: two sentences are equally importa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ubordinat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junctions:  one sentence is less important than the oth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Conjunctive adverb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Prepos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combine the two sentences by a conne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b050"/>
                </a:solidFill>
                <a:latin typeface="Calibri"/>
              </a:rPr>
              <a:t>High level positions are stressful at ti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b050"/>
                </a:solidFill>
                <a:latin typeface="Calibri"/>
              </a:rPr>
              <a:t>The financial rewards make these positions very desirable inde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wing Contrast (differenc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58040" cy="4757760"/>
        </p:xfrm>
        <a:graphic>
          <a:graphicData uri="http://schemas.openxmlformats.org/drawingml/2006/table">
            <a:tbl>
              <a:tblPr/>
              <a:tblGrid>
                <a:gridCol w="1576440"/>
                <a:gridCol w="1727280"/>
                <a:gridCol w="4954320"/>
              </a:tblGrid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of Connect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nector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am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rdinating conjun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level positions are stressful at times,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t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financial rewards make these positions very desirable inde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ordinating conjunc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reas, whi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le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igh level positions are stressful at times, the financial rewards make these positions very desirable indeed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junctive adverb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contrast, on the other ha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level positions are stressful at times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; on the other hand,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financial rewards make these positions very desirable inde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os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lik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like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undesirable stress of high level positions, the financial rewards make these positions very desirable inde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wing Comparison (Similaritie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58040" cy="4757760"/>
        </p:xfrm>
        <a:graphic>
          <a:graphicData uri="http://schemas.openxmlformats.org/drawingml/2006/table">
            <a:tbl>
              <a:tblPr/>
              <a:tblGrid>
                <a:gridCol w="1576440"/>
                <a:gridCol w="1727280"/>
                <a:gridCol w="495432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of Connect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nector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rdinating conjun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...to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level positions are stressful,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n be harmful to your health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o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ordinating conjunc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st a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st a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level positions are stressful, they can be harmful to your health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junctive adverb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milarly, in comparis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level positions are stressful at times;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milarly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they can be harmful to your health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os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ke, similar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milar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important professions, high level business positions are stressful at tim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119) Exercise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04:05:08Z</dcterms:created>
  <dc:creator>Windows 使用者</dc:creator>
  <dc:description/>
  <dc:language>en-US</dc:language>
  <cp:lastModifiedBy>Windows 使用者</cp:lastModifiedBy>
  <dcterms:modified xsi:type="dcterms:W3CDTF">2009-05-15T09:25:51Z</dcterms:modified>
  <cp:revision>18</cp:revision>
  <dc:subject/>
  <dc:title>Unit 5  Comparison and Contrast Essays</dc:title>
</cp:coreProperties>
</file>